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1D4E-B026-4FFB-A7F4-683D94E3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6CD0-8FF9-4317-8B61-E53AB5BA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21D4-3398-445E-83F9-168A6876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A07-EEFA-4455-98D5-3207F219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47E0-C020-49C6-B210-62167A94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C311-E441-4D72-B628-8A65BE31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8547-39A0-4BE9-83AE-F0AC31BE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CA3D-DE2C-4D52-AC60-B8038F5C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8DD9-E18A-4F2D-AC7B-5ADF9200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339A-D0F3-4100-A56C-6AF7FAD4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2D74-7DEF-45AB-A231-5EC47521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7BA-8A29-4FB8-8908-FC0F3576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2659-2EC0-40B6-9441-92D7F27E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2E8E-0591-49EC-8830-30F59BA0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6F59-4046-4AFE-90BC-10A74B7B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E91F-ED35-4EE1-A31D-AE87DA37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C2EC-5232-4ECB-A9BD-75D18CE8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B10C-208F-4BFA-82BE-721CF1EC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748-9F9B-4585-A826-DC013C5C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3AD6-E5B1-40C5-9C64-97A27206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81B-E956-4351-99FC-22399648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AC3-E43F-4735-81D6-9D9C556E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781B-D354-44B1-8038-1D0FDA0C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C494-3487-4D55-A3CB-061AFA8B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99CC-89D1-4CB9-9E22-7AC0151D90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EA79-0EEC-43FE-A27A-6BDA0383C7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iem.onet.pl/wiem/012787.html" TargetMode="External"/><Relationship Id="rId3" Type="http://schemas.openxmlformats.org/officeDocument/2006/relationships/hyperlink" Target="http://wiem.onet.pl/wiem/003217.html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EUROPA i POLSKA WIEKÓW ŚREDNI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TYK w ARCHITEKTUR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601600" y="515772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racowała B. Łyd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LSKA - WARSZAW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 Barba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Barbakan, rondel,</a:t>
            </a: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 średniowieczne umocnienie obronne w kształcie murowanej, okrągłej budowli ze strzelnicami i wewnętrznym dziedzińcem, wysuniętej przed linię murów miasta czy </a:t>
            </a:r>
            <a:r>
              <a:rPr b="0" lang="pl-PL" sz="1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zamku</a:t>
            </a: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 i połączonej z nim mostem lub osłoniętym przejściem (zwanym szyją). Barbakan bronił bramy głównej i umożliwiał ostrzał boczn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427640" y="3645000"/>
            <a:ext cx="450036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LSK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raków – Sukiennice z XIV 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63640" y="2997360"/>
            <a:ext cx="5329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LSK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rocław - Gotycki Ratusz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atusz gotycki z XIV w. zajmuje centralną część Rynku i mieści m.in. Muzeum Historyczne oraz w piwnicach - zakłady gastronomiczne. Bogata dekoracja plastyczna szczytów. Wewnątrz znajdują się reprezentacyjne sale: Mieszczańska, Wójtowska i Izba Radnych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835280" y="3645000"/>
            <a:ext cx="5329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6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LSK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Trzebnica - kościół pod wezw. Św. Piotra i Pawła z XIII/XIV w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050920" y="3213000"/>
            <a:ext cx="546588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TY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Gotyk, styl w architekturze i sztukach plastycznych panujący w Europie w okresie dojrzałego i późnego średniowiecza. Stanowi szczytowe osiągnięcie kultury rycerskiej, mieszczańskiej, a także dworskiej. Rozwijał się w kilku fazach od połowy XII w. i trwał do końca XV w. Nazwa gotyk pojawiła się w pismach L. Ghibertiego, a następnie G. Vasariego jako negatywne określenie sztuki powstałej między sztuką romańską a renesansem, mylnie uważanej za wytwór barbarzyńskich Gotów odcinających się od tradycji antyk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ECHY ARCHITEKTURY GOTYCKIEJ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dulcem cegł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umentaliz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rtykalizm, czyli strzelistoś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kkość budowl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rys budowli w kształcie krzyż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klepienia krzyżowe, krzyżowo – żebrow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ąskie, wysokie okna wypełnione kolorowymi witrażam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ozeta nad głównym wejści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dobione porta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nętrze budowli bogate w rzeźby, płaskorzeźb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ewnętrznie obiekt zdobiony wieżyczkami, sterczynam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500"/>
                            </p:stCondLst>
                            <p:childTnLst>
                              <p:par>
                                <p:cTn id="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ANCJ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PARYŻ – katedra Notre – Dame z XII/XIII 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68360" y="2924280"/>
            <a:ext cx="4464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ANCJ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Rozeta – okrągłe okno wypełnione kolorowymi witrażami (Paryż – katedra Notre – Dam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95640" y="3357720"/>
            <a:ext cx="4572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ODZAJE SKLEPIEŃ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 – krzyżowe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 – krzyżowo -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żebrow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19280" y="2924280"/>
            <a:ext cx="4176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ANCJ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Zamek w Carcassonne – przykład budowli obronnej (płd. Francja) z XII w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03280" y="3284640"/>
            <a:ext cx="5545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IELKA BRYTAN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072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TERBURY – katedra z XV 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27552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YP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Famagusta – kościół św. Mikołaja z XIV 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2781360"/>
            <a:ext cx="554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11:34:27Z</dcterms:created>
  <dc:creator>Administrator</dc:creator>
  <dc:description/>
  <dc:language>en-US</dc:language>
  <cp:lastModifiedBy>Administrator</cp:lastModifiedBy>
  <dcterms:modified xsi:type="dcterms:W3CDTF">2002-11-22T11:07:13Z</dcterms:modified>
  <cp:revision>33</cp:revision>
  <dc:subject/>
  <dc:title>Slajd 1</dc:title>
</cp:coreProperties>
</file>